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731-4F3C-4B19-A8FF-55917A8D85A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BE5-359F-48E3-9FFE-87387C01D1F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C4DF-7B9E-4F4A-9DA6-83147047751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78ED-7EA3-40E3-A0BD-AA353C83F95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89D-E25E-41AE-80E6-66144CAF17A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4DD5-9F45-41AA-978E-0D707C61EAF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4CD-5630-4C62-8FA5-F1B336549CC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CAE8-60C3-4C2B-9D4D-1CF0349B94A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B9E0-0326-42B4-BE41-FCB794A67FE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286-5F3A-4D38-8591-4D397162E20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DAE3-4FFB-4103-A44C-951F62FAF2E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6D3F-E415-4A05-BFF4-D5E7F76B204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1F5-6EC8-465F-92EC-D2FA74CF52A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0B2-ECC1-47B4-8E0D-73A6C82B16C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3E4-6C88-475A-8059-123B5F91139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5DC5-2D37-441F-9089-E8903B5616E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C2D-EDC2-4BE1-83CA-A01DBC20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E74-0E0C-4C35-AAAD-6624E81A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2D1-E625-4992-9842-E120AEB5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8BB-084C-4E9C-B0FB-5425C690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D4F-6368-4B8F-BE51-0BEE4C9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3C3C-6744-4955-A2B8-398069A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61B7-8555-423F-B19E-B957115A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0555-59DB-4762-A77E-FE330157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B12-09C9-4798-9111-CAA2B95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F86-003D-4086-B863-0268BF1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B0B6-05C2-4B4A-B3B7-9D9EBEC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214-6A1C-4215-853A-E6E01CD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CCEC-3C91-4CBD-B38E-ABFFDAE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0380-C0D9-4619-ABDD-C075225D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3297-289B-4AD3-93D6-F2F790A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738C-D1CC-454C-999C-1A1EDFF3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328D-67FA-4807-AC18-F6D17690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E7062-1970-4BC1-A28B-7FF22491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25EAA-F143-4927-BA38-6DB6C87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5ECA7-269E-4B16-9AC7-E66F101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E9FE-91AC-4EBE-9120-AA2B4B3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871D9-972B-4EC0-8782-413D846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CC6-05E1-4385-9272-A2E0CBBD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65FC3-00BF-44C0-A71F-5F87E3E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B1DD6-3A62-481A-835A-350919C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D454D-0095-472F-A8AA-44D77EB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0375A-451F-4747-BE6C-66FE84C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7EC00-58BC-4AFD-8B05-B6724D2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E6266-A9B3-44BF-BEA9-F6A40704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141E0-1E95-4BDB-8E8E-6D87310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EECF-05E8-4E4B-8135-C94F1A93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B8E2-21AA-4C37-9E6A-685BDEF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1181-B731-48B0-80BC-F617BFCF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609-3D48-40A4-8922-AF5B89F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729B-F6D9-4F44-87DB-FECB2892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3E1E-8E36-47BE-B2CE-047A8BFE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7778-16A6-4A43-9E30-0242C37A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C899-5FCF-44BF-8C01-57C400C7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0998-C2A5-4672-9D43-12A29D16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65DE-4B35-44AD-BB33-2256F6A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2098-2057-462A-9EFB-E3848908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80EE-DDDD-4EEA-B909-B4B1BB8B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D815-51BC-4BD9-BDA0-545C1B82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45B-0F83-45C1-8DDC-8FCB642E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8E9-9033-455B-A705-902F67F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D3C-8AB6-4DBA-BE39-6DDD68D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43C-7D7C-42FA-AF50-4C7D610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F2A-0815-4E73-948B-CB88B64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0B0-EEC5-46BF-AA73-744E28BB5C39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F8D-99F7-48B4-90D6-DFB0F386269B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85C-8838-4BB6-A22E-6256D8246637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8CA3-59FD-411D-A157-968150547316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특허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285696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블랙박스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”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개봉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900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6" descr="Marconi Reading a Message"/>
          <p:cNvPicPr/>
          <p:nvPr/>
        </p:nvPicPr>
        <p:blipFill>
          <a:blip r:embed="rId2"/>
          <a:stretch/>
        </p:blipFill>
        <p:spPr>
          <a:xfrm>
            <a:off x="684360" y="1143000"/>
            <a:ext cx="77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당시 일부 과학자들은 마르코니의 무선전신이 과학 실험기구를 모아놓은 것에 불과하다고 비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마르코니의 기여가 매우 결정적인 것은 사실이지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른 과학자들의 공헌도 중요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마르코니가 취득한 특허에는 다른 과학자들의 권리가 전혀 인정되는 않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마지막 숟가락을 얹은 사람이 모든 것을 독식할 권리를 얻는 것은 정당화되는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발전 촉진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 발전 저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포괄적 특허는 경쟁자의 추격 저지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마르코니의 무선전신에 대한 특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1897, 1900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의 특허로 무선 사업 완전 독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의 많은 대기업들도 비슷한 전략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취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 대상의 지나친 확대에 따른 문제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비즈니스 모델 특허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알고리즘에도 특허 수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삼성전자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터넷상에서의 원격교육방법 및 장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20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무효소송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200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무효 선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미국 대법원 빌스키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캐포스 사건 판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2010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에 따른 독점과 의약품 접근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약품 가격에 따른 수요 변화 적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독점은 곧 독점 공급자에 의한 가격 결정 의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는 독점을 가능케 해주는 핵심 근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제 문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개발국의 에이즈 약품 접근권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대 국내 글리벡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한알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25,000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90-150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만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보험적용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제조원가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000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원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강제실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청구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2002).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그러나 기각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2003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저개발국의 기술 발전 문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는 저개발국의 기술 도입 저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실 유럽의 많은 나라들도 개발 초기 단계였을 때에는 특허법 없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 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장하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개발국에겐 특허 적용에 예외 적용 필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실제로 어느 정도 관용 적용되고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인도의 글리벡 강제실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많은 저개발국들의 에이즈 약품 강제실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저개발국 정부와 제약회사 사이의 갈등 빚어지기도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그렇다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가 없어도 기술 발전 촉진될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 외에 발명가의 노력에 대한 합리적 보상 제도가 가능한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지적재산권의 두 갈래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특허와 저작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특허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적 아이디어 보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진보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규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산업상 이용가능성 심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승인 후에 효력 발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2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작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인간의 표현물 보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모방이 아니라면 권리 발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작물 만들어진 직후 효력 발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5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까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발견은 특허 대상에서 제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소프트웨어는 특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작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의 개략적 초기 역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베네치아 공화국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474) 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품에 대한 독점적 권리를 얻기 위해서는 정부에 얘기를 해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영국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1623) 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새로운 발명에만 특허 수여하기로 선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170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초부터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에 대한 상세한 글이 첨부되어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프랑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아카데미에서 심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1791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 현대적인 특허 제도 마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발명가의 권리는 자연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미국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179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 특허법 도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전 심사 강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형 제출 의무화 경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의 옹호 논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식 취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용한 발명을 대중적으로 공개하여 전체 산업 발전에 기여하는 대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 기술의 상세한 내용을 공개하는 출원인에게 일정기간 동안 해당 기술에 대한 독점권 인정할 필요 있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개발 노력에 대한 보상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 경쟁을 통해 기술 발전 촉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공개를 통한 산업 발전 기여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한국도 점점 원천기술을 보유함에 따라 다른 나라로부터 로열티를 받는 특허강국이 될 수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특허 비판의 일반적 논리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독점적 권리에 대한 비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지식의 공공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누적성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공유지에 대한 도둑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은 왜 권리가 없는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유시장 경제와 모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대 효과에 대한 비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오히려 기술 발전 저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소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허 괴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독점으로 인한 다른 권리 침해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개발국의 의약품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투입과 이익의 불일치에 대한 비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상당부분 공적 기금에 의해 수행된 연구개발의 이익을 사적으로 독점하는 것은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자유시장 경제와의 모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정부가 특정한 개인에게 독점적인 권리를 부여하는 것은 자유무역 원리와 모순이라는 주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로 네덜란드는 이러한 논리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17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부터 시행되던 특허 제도를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69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 폐지한 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1912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야 재도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스위스 역시 같은 이유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07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야 특허법 도입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 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실 재확인 필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아인슈타인은 스위스 베른에서 특허 심사관으로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90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에 근무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[Patents] projected an artificial idol of the single inventor, radically denigrated the role of the intellectual commons, and blocked a path to this commons for other citizens — citizens who were all, on this account, potential inventors too. [...] Patentees were the equivalent of squatters on public land — or better, of uncouth market traders who planted their barrows in the middle of the highway and barred the way of the peopl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rian Johns,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Piracy: The Intellectual Property Wars from Gutenberg to Gate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The University of Chicago Press, 2009, p.273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마르코니의 무선전신 사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헤르츠의 전자기파 실험 장치를 발전시킨 장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004040" y="5445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Hertz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의 실험장치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가는각진제목체"/>
              </a:rPr>
              <a:t>(188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7" descr="hertzexperi"/>
          <p:cNvPicPr/>
          <p:nvPr/>
        </p:nvPicPr>
        <p:blipFill>
          <a:blip r:embed="rId1"/>
          <a:stretch/>
        </p:blipFill>
        <p:spPr>
          <a:xfrm>
            <a:off x="684360" y="2997360"/>
            <a:ext cx="3100320" cy="2246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HERTZ_TABLE"/>
          <p:cNvPicPr/>
          <p:nvPr/>
        </p:nvPicPr>
        <p:blipFill>
          <a:blip r:embed="rId2"/>
          <a:stretch/>
        </p:blipFill>
        <p:spPr>
          <a:xfrm>
            <a:off x="3924360" y="2971800"/>
            <a:ext cx="4788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785320" y="5805360"/>
            <a:ext cx="34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Marconi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와 그의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블랙박스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  <a:ea typeface="산돌고딕 M"/>
              </a:rPr>
              <a:t>”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(1897</a:t>
            </a:r>
            <a:r>
              <a:rPr b="1" lang="ko-KR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경</a:t>
            </a:r>
            <a:r>
              <a:rPr b="1" lang="en-US" sz="1800" spc="-1" strike="noStrike">
                <a:solidFill>
                  <a:srgbClr val="000000"/>
                </a:solidFill>
                <a:latin typeface="산돌고딕 M"/>
                <a:ea typeface="산돌고딕 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5" descr="wireless marconi young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3:27:34Z</dcterms:created>
  <dc:creator>zolaist</dc:creator>
  <dc:description/>
  <dc:language>en-US</dc:language>
  <cp:lastModifiedBy>zolaist</cp:lastModifiedBy>
  <dcterms:modified xsi:type="dcterms:W3CDTF">2010-12-02T15:50:50Z</dcterms:modified>
  <cp:revision>15</cp:revision>
  <dc:subject/>
  <dc:title>특허</dc:title>
</cp:coreProperties>
</file>